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2DF5-014E-4D77-B524-FA80F50A4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important thing that I learned about linear relations today i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CCDF-32E4-4CEC-8122-CD5488DD9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8B6D-BF15-4E77-98E9-B4E1173E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613B-7EC8-477A-B696-9C4A54BBE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B4FF-92CA-4016-8119-EBFC13591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1A39-949A-47BC-B4F2-3AC4573FB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3A384-28BE-47F8-B42B-0D4C1B25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F2D8-E263-4C7D-B8CE-4A5B08BF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915FE-A11E-4383-9DE9-E36C90AA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2188-4344-4CE3-A7C0-EE046C7D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69D8-8C3B-454C-A1C2-52C72DAD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61A7-0198-4E3C-8E84-CFD2EE62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DA47-C046-463E-AD70-E4E5D51F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0404-0240-4581-B6DC-6609D669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B0EB-1014-44F9-B19C-55162435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89DE-F902-4F9A-B478-0B10C97C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C273-C988-4D02-8346-8A909B19A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E669-9FED-41BC-8FC5-66C672617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9DFE-FEB3-42C8-AD7A-551480EA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AA8B-C390-44DA-A552-3358550D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8157-90C3-4C6C-BEBC-5F9553CD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9CC0-7B8A-4AE0-8624-51F6D758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04B2-5A49-4C39-85EF-06AD4027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F890-11DF-491D-9CF6-DBA2B146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5630-1F58-4A6F-AC05-814CF438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192C-97BE-4BAD-96A0-09377D8E0A1A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3199b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F6E3-9ED0-442E-8221-A68A69B556A4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a/imgres?imgurl=http://www.mcruffy.com/Images/PatternBlocks.jpg&amp;imgrefurl=http://www.mcruffy.com/HandsOnMath.htm&amp;usg=__Dx1IV1nrXghiA2HkEF7DiMLSrOc=&amp;h=655&amp;w=997&amp;sz=69&amp;hl=en&amp;start=2&amp;tbnid=DnfM070keAMGgM:&amp;tbnh=98&amp;tbnw=149&amp;prev=/images%3Fq%3Dpattern%2Bblocks%26gbv%3D2%26hl%3Den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a/imgres?imgurl=http://www.mcruffy.com/Images/PatternBlocks.jpg&amp;imgrefurl=http://www.mcruffy.com/HandsOnMath.htm&amp;usg=__Dx1IV1nrXghiA2HkEF7DiMLSrOc=&amp;h=655&amp;w=997&amp;sz=69&amp;hl=en&amp;start=2&amp;tbnid=DnfM070keAMGgM:&amp;tbnh=98&amp;tbnw=149&amp;prev=/images%3Fq%3Dpattern%2Bblocks%26gbv%3D2%26hl%3Den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52480" y="228600"/>
            <a:ext cx="5545080" cy="4546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33520" y="4495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  <a:ea typeface="Arial"/>
              </a:rPr>
              <a:t>Linear Relations Day 4</a:t>
            </a:r>
            <a:br>
              <a:rPr sz="4800"/>
            </a:br>
            <a:r>
              <a:rPr b="0" lang="en-US" sz="3600" spc="-1" strike="noStrike">
                <a:solidFill>
                  <a:srgbClr val="0d469b"/>
                </a:solidFill>
                <a:latin typeface="Book Antiqua"/>
                <a:ea typeface="Arial"/>
              </a:rPr>
              <a:t>August 20, 2009</a:t>
            </a:r>
            <a:br>
              <a:rPr sz="3600"/>
            </a:br>
            <a:r>
              <a:rPr b="0" lang="en-US" sz="3600" spc="-1" strike="noStrike">
                <a:solidFill>
                  <a:srgbClr val="0d469b"/>
                </a:solidFill>
                <a:latin typeface="Book Antiqua"/>
                <a:ea typeface="Arial"/>
              </a:rPr>
              <a:t>Greg Clarke &amp; Trish Ste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Linear Expressions </a:t>
            </a:r>
            <a:br>
              <a:rPr sz="3600"/>
            </a:b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Representation Activity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760400" y="2664000"/>
            <a:ext cx="2141640" cy="12207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305320" y="2676600"/>
            <a:ext cx="2067120" cy="11840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949400" y="4191120"/>
            <a:ext cx="2273400" cy="12808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5253120" y="4079880"/>
            <a:ext cx="20797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ask: 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1200" y="2151000"/>
            <a:ext cx="824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reate an open task for your learning go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57360" y="1263600"/>
            <a:ext cx="6014880" cy="43974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4410000" y="1720800"/>
            <a:ext cx="914400" cy="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Document"/>
          <p:cNvSpPr/>
          <p:nvPr/>
        </p:nvSpPr>
        <p:spPr>
          <a:xfrm>
            <a:off x="1219320" y="2563920"/>
            <a:ext cx="976320" cy="12859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Document"/>
          <p:cNvSpPr/>
          <p:nvPr/>
        </p:nvSpPr>
        <p:spPr>
          <a:xfrm>
            <a:off x="2408400" y="2973240"/>
            <a:ext cx="976320" cy="12859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ocument"/>
          <p:cNvSpPr/>
          <p:nvPr/>
        </p:nvSpPr>
        <p:spPr>
          <a:xfrm>
            <a:off x="3672000" y="3336840"/>
            <a:ext cx="976320" cy="12859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Document"/>
          <p:cNvSpPr/>
          <p:nvPr/>
        </p:nvSpPr>
        <p:spPr>
          <a:xfrm>
            <a:off x="4883040" y="3389400"/>
            <a:ext cx="976320" cy="12859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Document"/>
          <p:cNvSpPr/>
          <p:nvPr/>
        </p:nvSpPr>
        <p:spPr>
          <a:xfrm>
            <a:off x="6159600" y="2784600"/>
            <a:ext cx="976320" cy="12859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7383600" y="2044800"/>
            <a:ext cx="976320" cy="12859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51000" y="2689200"/>
            <a:ext cx="255600" cy="255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15800" y="787320"/>
            <a:ext cx="8331480" cy="5867640"/>
            <a:chOff x="415800" y="787320"/>
            <a:chExt cx="8331480" cy="5867640"/>
          </a:xfrm>
        </p:grpSpPr>
        <p:grpSp>
          <p:nvGrpSpPr>
            <p:cNvPr id="137" name=""/>
            <p:cNvGrpSpPr/>
            <p:nvPr/>
          </p:nvGrpSpPr>
          <p:grpSpPr>
            <a:xfrm>
              <a:off x="415800" y="787320"/>
              <a:ext cx="8331480" cy="5867640"/>
              <a:chOff x="415800" y="787320"/>
              <a:chExt cx="8331480" cy="5867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15800" y="805320"/>
                <a:ext cx="8331480" cy="583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594320" y="787320"/>
                <a:ext cx="0" cy="586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15800" y="3675240"/>
                <a:ext cx="8318880" cy="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197160" y="3072240"/>
                <a:ext cx="2781360" cy="1352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504720" y="1006560"/>
              <a:ext cx="2349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fin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4720" y="3821400"/>
              <a:ext cx="2349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xamp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59760" y="3894480"/>
              <a:ext cx="2349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n-examp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46800" y="878400"/>
              <a:ext cx="2349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haracteristics/Fac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375000" y="33210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inear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50920" y="782640"/>
            <a:ext cx="5459400" cy="5346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How can we open this up?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33680" y="1889280"/>
            <a:ext cx="60404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hat is Your Picture Worth?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88040" y="1523880"/>
            <a:ext cx="2549520" cy="1676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52400" y="2165400"/>
            <a:ext cx="66978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 1: Individ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a pi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n algebraic expression to represent your pi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a cost to each b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your picture wort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hat is Your Picture Worth?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88040" y="1523880"/>
            <a:ext cx="2549520" cy="16765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52400" y="2165400"/>
            <a:ext cx="66978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 2:  In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bine your pi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n algebraic expression to represent your pictures comb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n algebraic expression to compare your pi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15800" y="599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olving Equations using Gizmo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14440" y="1612800"/>
            <a:ext cx="6121440" cy="3799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371600" y="5567400"/>
            <a:ext cx="625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e 6 – 8 Algebra                                                           Solving expressions, equations and inequalities         Modeling One Step Equations – Activity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Solving Equations </a:t>
            </a:r>
            <a:br>
              <a:rPr sz="4000"/>
            </a:b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Using Algebra Tile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) 2x + 3 = 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) 5x + 1 = 2x +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) x – 2 = -x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8381600">
            <a:off x="5470920" y="4034520"/>
            <a:ext cx="2206800" cy="430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4398840"/>
            <a:ext cx="430200" cy="430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84440" y="1965240"/>
            <a:ext cx="5830920" cy="46767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Solving Equations: </a:t>
            </a:r>
            <a:br>
              <a:rPr sz="4000"/>
            </a:br>
            <a:r>
              <a:rPr b="0" lang="en-US" sz="3200" spc="-1" strike="noStrike">
                <a:solidFill>
                  <a:srgbClr val="0d469b"/>
                </a:solidFill>
                <a:latin typeface="Arial"/>
              </a:rPr>
              <a:t>National Library of Virtual Manipulatives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869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Solving Equations By Graphing Each Side: Gizmo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940040" y="2257560"/>
            <a:ext cx="56671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ask: In pair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1200" y="2151000"/>
            <a:ext cx="824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reate an open task for solving equat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986200" y="3719520"/>
            <a:ext cx="3698640" cy="2478240"/>
            <a:chOff x="2986200" y="3719520"/>
            <a:chExt cx="3698640" cy="2478240"/>
          </a:xfrm>
        </p:grpSpPr>
        <p:sp>
          <p:nvSpPr>
            <p:cNvPr id="115" name="Cloud"/>
            <p:cNvSpPr/>
            <p:nvPr/>
          </p:nvSpPr>
          <p:spPr>
            <a:xfrm>
              <a:off x="2986200" y="3719520"/>
              <a:ext cx="3698640" cy="247824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187800" y="4316400"/>
              <a:ext cx="3362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change Open Task with another Pair.   Try it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6132600" y="4498920"/>
            <a:ext cx="2098440" cy="1406520"/>
            <a:chOff x="6132600" y="4498920"/>
            <a:chExt cx="2098440" cy="1406520"/>
          </a:xfrm>
        </p:grpSpPr>
        <p:sp>
          <p:nvSpPr>
            <p:cNvPr id="118" name="Cloud"/>
            <p:cNvSpPr/>
            <p:nvPr/>
          </p:nvSpPr>
          <p:spPr>
            <a:xfrm>
              <a:off x="6132600" y="4498920"/>
              <a:ext cx="2098440" cy="1406520"/>
            </a:xfrm>
            <a:prstGeom prst="pi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13400" y="4813200"/>
              <a:ext cx="1560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vide Feedb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PSteele</cp:lastModifiedBy>
  <dcterms:modified xsi:type="dcterms:W3CDTF">2009-08-05T12:18:14Z</dcterms:modified>
  <cp:revision>94</cp:revision>
  <dc:subject/>
  <dc:title>Slide 1</dc:title>
</cp:coreProperties>
</file>